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F7A-6183-4E4B-9C24-1DB7ECC8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7BF-1971-4EAA-A6C9-DCCC3B29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CF8-C4A6-4902-952B-89EB0AB0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3DC-F499-4179-A23B-9DD71C9C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CD8-8913-44F6-94D6-3920BC73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EA6-74E5-4B0F-B453-8D55A969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8FF-639C-4307-B52F-9524D986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D63-820F-4711-96B2-D538AEAB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81C-369C-40B7-A11F-D69556D2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BD8-E123-46E0-8533-5F8C5F54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220-3E69-46A0-B14A-601D5B61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44E-64F0-42AD-AD79-A174C058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6CC6-B29F-4A10-8E16-9C2899F2D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4:02:28Z</dcterms:created>
  <dc:creator>user</dc:creator>
  <dc:description/>
  <dc:language>en-US</dc:language>
  <cp:lastModifiedBy>user</cp:lastModifiedBy>
  <dcterms:modified xsi:type="dcterms:W3CDTF">2009-02-16T04:04:04Z</dcterms:modified>
  <cp:revision>1</cp:revision>
  <dc:subject/>
  <dc:title>Test 1</dc:title>
</cp:coreProperties>
</file>